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2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15A0-CE3D-442A-98B7-93D13235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DBBC-5D7E-42E1-B268-47DBDE1B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A987-ECC7-4E7D-B8E1-47F9559C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1B17-A3EE-4679-A11C-922402D6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4686-0D3D-451A-B8E3-58ED8F55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85C7-3ABA-4F51-9EF0-D975A04C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BCDF-BD56-4B6C-B458-FB888D6A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013B-7356-412F-9322-CF6D418C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AD89-500C-46A1-8100-3E034367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9E54-4A97-4479-B4A7-846CA0E1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C9F0-275C-40A8-AA92-5FBACBE9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AE02-9126-45B5-9E8F-AE02807C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4F6C-0446-4B53-9643-D6AECE79E6C4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ANNex%20b.doc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WORKING%20METHODOLOGY%20T%20PROQ%20rev%202.doc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Quality%20Plan%20T%20PROQ%20rev3.xls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2.pn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6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sefcarm.es/" TargetMode="External"/><Relationship Id="rId3" Type="http://schemas.openxmlformats.org/officeDocument/2006/relationships/hyperlink" Target="http://www.proqualindt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10.png"/><Relationship Id="rId8" Type="http://schemas.openxmlformats.org/officeDocument/2006/relationships/hyperlink" Target="mailto:vicentej.garberi@carm.es" TargetMode="External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1360" y="-14400"/>
          <a:ext cx="876312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-14400"/>
                    <a:ext cx="876312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10920" y="1628280"/>
            <a:ext cx="8064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JORNADAS ERASMUS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MURCIA 19, FEBRERO 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44000" cy="1128600"/>
            <a:chOff x="0" y="0"/>
            <a:chExt cx="9144000" cy="112860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3780000" y="18900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0" y="115920"/>
              <a:ext cx="2195640" cy="84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rcRect l="21423" t="18981" r="14288" b="26197"/>
            <a:stretch/>
          </p:blipFill>
          <p:spPr>
            <a:xfrm>
              <a:off x="7451640" y="0"/>
              <a:ext cx="1692360" cy="11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"/>
          <p:cNvSpPr/>
          <p:nvPr/>
        </p:nvSpPr>
        <p:spPr>
          <a:xfrm>
            <a:off x="755640" y="386064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CENTRO NACIONAL DE FORMACIÓN PROFESIONAL OCUPACIONAL DE CARTAG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68360" y="112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Trebuchet MS"/>
              </a:rPr>
              <a:t>BUENAS PRÁCTICAS PARA LLEVAR A CABO 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2017440"/>
            <a:ext cx="87138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 propuest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 Entre otras, la selección depende de que la propuesta sea relevante y esté bien diseñada. 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nnex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No basta con tener una buena idea.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Hay que hacer un estudio minucioso de las tareas a realizar y de las distintas fases del proyec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sglosar el proyecto en bloques de traba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Establecer un cronograma con los hitos más desta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Identificar las tareas a realizar en cada bloque de trabajo y cuantificarlas en tiempo y en dinero, y nombrar un responsable para cada tarea / bl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0"/>
            <a:ext cx="9144000" cy="1028880"/>
            <a:chOff x="0" y="0"/>
            <a:chExt cx="9144000" cy="1028880"/>
          </a:xfrm>
        </p:grpSpPr>
        <p:pic>
          <p:nvPicPr>
            <p:cNvPr id="123" name="" descr=""/>
            <p:cNvPicPr/>
            <p:nvPr/>
          </p:nvPicPr>
          <p:blipFill>
            <a:blip r:embed="rId3"/>
            <a:stretch/>
          </p:blipFill>
          <p:spPr>
            <a:xfrm>
              <a:off x="3348000" y="11592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4"/>
            <a:stretch/>
          </p:blipFill>
          <p:spPr>
            <a:xfrm>
              <a:off x="0" y="115920"/>
              <a:ext cx="200988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5"/>
            <a:srcRect l="21423" t="-524" r="14288" b="18290"/>
            <a:stretch/>
          </p:blipFill>
          <p:spPr>
            <a:xfrm>
              <a:off x="8115480" y="0"/>
              <a:ext cx="1028520" cy="102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61196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24000" y="1623240"/>
            <a:ext cx="8820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AutoNum type="arabicParenR" startAt="2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 propuesta. Desarrollo del proyec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Definir bien la organización del proyecto. 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etodología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omunicaciones entre los socios.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Persona de contacto 2 ó 3 por soci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Documentos de trabajo.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finir formatos y versión. (doc, pdf, xls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Establecer un responsable para cada tarea o cada fase del proyecto.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Aunque el reparto de tareas deba estar equilibrado y los socios participen de alguna forma durante toda la duración del proyecto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Importancia de las reuniones de trabajo. En ellas se toman las decisiones más importantes.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Preparar bien la agenda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Por muy implicados que estén los socios</a:t>
            </a: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 El promotor (coordinador) tiene que “tirar” d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9144000" cy="1028880"/>
            <a:chOff x="0" y="0"/>
            <a:chExt cx="9144000" cy="1028880"/>
          </a:xfrm>
        </p:grpSpPr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3348000" y="11592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4"/>
            <a:stretch/>
          </p:blipFill>
          <p:spPr>
            <a:xfrm>
              <a:off x="0" y="115920"/>
              <a:ext cx="200988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5"/>
            <a:srcRect l="21423" t="-524" r="14288" b="18290"/>
            <a:stretch/>
          </p:blipFill>
          <p:spPr>
            <a:xfrm>
              <a:off x="8115480" y="0"/>
              <a:ext cx="1028520" cy="102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"/>
          <p:cNvSpPr/>
          <p:nvPr/>
        </p:nvSpPr>
        <p:spPr>
          <a:xfrm>
            <a:off x="468360" y="7970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Trebuchet MS"/>
              </a:rPr>
              <a:t>BUENAS PRÁCTICAS PARA LLEVAR A CABO 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61196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39640" y="1848600"/>
            <a:ext cx="828036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AutoNum type="arabicParenR" startAt="2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 propuesta. Desarrollo del proyec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iseñar un 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lan de calidad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onde se reflejen los hitos y resultados a conseguir dentro de un calendario prefijado, de forma que periódicamente se pueda revisar y comprobar el grado de ejecución y la consecución de los objetivos previstos. Esto es importante en caso de retrasos, donde sea necesario reajustar el calendario de entreg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Todas las entregas de productos intermedios deben pasar por el coordinador. A veces es más trabajo, pero es importante  mantener el control de las actividades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0"/>
            <a:ext cx="9144000" cy="1028880"/>
            <a:chOff x="0" y="0"/>
            <a:chExt cx="9144000" cy="1028880"/>
          </a:xfrm>
        </p:grpSpPr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348000" y="11592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0" y="115920"/>
              <a:ext cx="200988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5"/>
            <a:srcRect l="21423" t="-524" r="14288" b="18290"/>
            <a:stretch/>
          </p:blipFill>
          <p:spPr>
            <a:xfrm>
              <a:off x="8115480" y="0"/>
              <a:ext cx="1028520" cy="102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468360" y="112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Trebuchet MS"/>
              </a:rPr>
              <a:t>BUENAS PRÁCTICAS PARA LLEVAR A CABO 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55640" y="1988280"/>
            <a:ext cx="7848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AutoNum type="arabicParenR" startAt="3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 propuesta. Plan financi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AutoNum type="arabicParenR" startAt="3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Hacer un presupuesto lo más realista y detallado posible. 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Es importante conocer los recursos propios (promotor y socios) para poder determinar cómo y quién debe realizar las distintas tareas del proyecto, y poder cuantificarlo. Los socios deben conocer el presupuesto desde el princip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0"/>
            <a:ext cx="9144000" cy="1028880"/>
            <a:chOff x="0" y="0"/>
            <a:chExt cx="9144000" cy="10288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3348000" y="11592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0" y="115920"/>
              <a:ext cx="200988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4"/>
            <a:srcRect l="21423" t="-524" r="14288" b="18290"/>
            <a:stretch/>
          </p:blipFill>
          <p:spPr>
            <a:xfrm>
              <a:off x="8115480" y="0"/>
              <a:ext cx="1028520" cy="102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"/>
          <p:cNvSpPr/>
          <p:nvPr/>
        </p:nvSpPr>
        <p:spPr>
          <a:xfrm>
            <a:off x="468360" y="112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Trebuchet MS"/>
              </a:rPr>
              <a:t>BUENAS PRÁCTICAS PARA LLEVAR A CABO 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6119640"/>
            <a:ext cx="9144000" cy="738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24000" y="1848240"/>
            <a:ext cx="828036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AutoNum type="arabicParenR" startAt="3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 propuesta. Plan financier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Justificación de gastos.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ada país y cada organismo tiene sus procedimientos para justificación de gastos.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ben conocer desde el primer día el plan financiero del proyecto, así como disponer de la Guía o Manual Administrativo y Financiero. Facilitar a los socios las hojas o modelos disponibles para justificación de gasto. Reservar en las reuniones de trabajo un apartado para revisar y recordar el procedimiento de justific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El coordinador del proyecto no es quien acepta o no los justificantes de ga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0" y="0"/>
            <a:ext cx="9144000" cy="1028880"/>
            <a:chOff x="0" y="0"/>
            <a:chExt cx="9144000" cy="1028880"/>
          </a:xfrm>
        </p:grpSpPr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3348000" y="11592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0" y="115920"/>
              <a:ext cx="200988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4"/>
            <a:srcRect l="21423" t="-524" r="14288" b="18290"/>
            <a:stretch/>
          </p:blipFill>
          <p:spPr>
            <a:xfrm>
              <a:off x="8115480" y="0"/>
              <a:ext cx="1028520" cy="102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"/>
          <p:cNvSpPr/>
          <p:nvPr/>
        </p:nvSpPr>
        <p:spPr>
          <a:xfrm>
            <a:off x="468360" y="112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Trebuchet MS"/>
              </a:rPr>
              <a:t>BUENAS PRÁCTICAS PARA LLEVAR A CABO 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50920" y="1762200"/>
            <a:ext cx="8713800" cy="38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AutoNum type="arabicParenR" startAt="4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Calidad de la Asociación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AutoNum type="arabicParenR" startAt="4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Elegir bien a los socios. 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El proyecto y los resultados previstos deben ser útiles para ell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onocer sus capacidades para poder asignarles a cada uno las tareas más adecua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os socios deben tener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influencia y capacidad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 para que los resultados del proyecto tengan el impacto deseado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Organismos con relevancia en sus respectivos países y participación en foros inter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0" y="0"/>
            <a:ext cx="9144000" cy="1028880"/>
            <a:chOff x="0" y="0"/>
            <a:chExt cx="9144000" cy="10288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3348000" y="11592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0" y="115920"/>
              <a:ext cx="200988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"/>
            <a:srcRect l="21423" t="-524" r="14288" b="18290"/>
            <a:stretch/>
          </p:blipFill>
          <p:spPr>
            <a:xfrm>
              <a:off x="8115480" y="0"/>
              <a:ext cx="1028520" cy="102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12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Trebuchet MS"/>
              </a:rPr>
              <a:t>BUENAS PRÁCTICAS PARA LLEVAR A CABO 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9144000" cy="549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476360" y="136440"/>
            <a:ext cx="554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907920"/>
            <a:ext cx="777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990033"/>
                </a:solidFill>
                <a:uFillTx/>
                <a:latin typeface="Times New Roman"/>
              </a:rPr>
              <a:t>TRANSFERRING EUROPEAN TRAINING PROGRAMME FOR THE QUALIFICATION OF NON-DESTRUCTIVE TESTING PERSO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59280" y="2205000"/>
            <a:ext cx="3097080" cy="276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entro Nacional de F.P.O. de Cartag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32720" y="378936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6436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2421000"/>
            <a:ext cx="2590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ROMO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16360" y="3213000"/>
            <a:ext cx="299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OLABO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843280" y="4221000"/>
            <a:ext cx="792000" cy="432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16720" y="4653000"/>
            <a:ext cx="2454120" cy="459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Asociación Húngara de Ensayos no Destruc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4437000"/>
            <a:ext cx="2195640" cy="391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Asociación Croata de Ensayos no Destructivos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8000" y="2420280"/>
            <a:ext cx="2357280" cy="459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Asociación Checa de Ensayos no Destructivos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rcRect l="22106" t="0" r="22168" b="0"/>
          <a:stretch/>
        </p:blipFill>
        <p:spPr>
          <a:xfrm>
            <a:off x="7164360" y="1484280"/>
            <a:ext cx="1079640" cy="862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443640" y="2421000"/>
            <a:ext cx="2303640" cy="459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Asociación Española de Ensayos no Destructiv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7236000" y="3573360"/>
            <a:ext cx="1008000" cy="9320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1143000" cy="1171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755640" y="3500280"/>
            <a:ext cx="1042920" cy="719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 flipH="1" flipV="1">
            <a:off x="5756400" y="4179960"/>
            <a:ext cx="1087200" cy="29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2577600" y="2961360"/>
            <a:ext cx="948600" cy="315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390280" y="2911320"/>
            <a:ext cx="871920" cy="4179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0"/>
            <a:ext cx="9144000" cy="1028880"/>
            <a:chOff x="0" y="0"/>
            <a:chExt cx="9144000" cy="1028880"/>
          </a:xfrm>
        </p:grpSpPr>
        <p:pic>
          <p:nvPicPr>
            <p:cNvPr id="182" name="" descr=""/>
            <p:cNvPicPr/>
            <p:nvPr/>
          </p:nvPicPr>
          <p:blipFill>
            <a:blip r:embed="rId6"/>
            <a:stretch/>
          </p:blipFill>
          <p:spPr>
            <a:xfrm>
              <a:off x="3348000" y="11592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7"/>
            <a:stretch/>
          </p:blipFill>
          <p:spPr>
            <a:xfrm>
              <a:off x="0" y="115920"/>
              <a:ext cx="200988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8"/>
            <a:srcRect l="21423" t="-524" r="14288" b="18290"/>
            <a:stretch/>
          </p:blipFill>
          <p:spPr>
            <a:xfrm>
              <a:off x="8115480" y="0"/>
              <a:ext cx="1028520" cy="102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5" name="" descr=""/>
          <p:cNvPicPr/>
          <p:nvPr/>
        </p:nvPicPr>
        <p:blipFill>
          <a:blip r:embed="rId9"/>
          <a:srcRect l="21423" t="15647" r="14288" b="30317"/>
          <a:stretch/>
        </p:blipFill>
        <p:spPr>
          <a:xfrm>
            <a:off x="3708360" y="1413000"/>
            <a:ext cx="1368360" cy="72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"/>
          <p:cNvGraphicFramePr/>
          <p:nvPr/>
        </p:nvGraphicFramePr>
        <p:xfrm>
          <a:off x="3886200" y="4664160"/>
          <a:ext cx="1143000" cy="1076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86200" y="4664160"/>
                    <a:ext cx="11430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4500720" y="429264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16360" y="5805360"/>
            <a:ext cx="3600360" cy="459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Asociación de Laboratorios Acreditados de 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2"/>
          <a:stretch/>
        </p:blipFill>
        <p:spPr>
          <a:xfrm>
            <a:off x="71280" y="6342120"/>
            <a:ext cx="971640" cy="442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55640" y="17596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AutoNum type="arabicParenR" startAt="5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Difusión e impacto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AutoNum type="arabicParenR" startAt="5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Fijar actividades concretas de difusión. 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Cada vez es más la importancia que se da al impacto que pueda tener el proyecto. La utilidad del proyecto debe estar garantizada por los propios s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Sostenibilidad de éste una vez finalizado el periodo de elegibilidad del m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0" y="0"/>
            <a:ext cx="9144000" cy="1028880"/>
            <a:chOff x="0" y="0"/>
            <a:chExt cx="9144000" cy="102888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3348000" y="11592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0" y="115920"/>
              <a:ext cx="200988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4"/>
            <a:srcRect l="21423" t="-524" r="14288" b="18290"/>
            <a:stretch/>
          </p:blipFill>
          <p:spPr>
            <a:xfrm>
              <a:off x="8115480" y="0"/>
              <a:ext cx="1028520" cy="102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"/>
          <p:cNvSpPr/>
          <p:nvPr/>
        </p:nvSpPr>
        <p:spPr>
          <a:xfrm>
            <a:off x="468360" y="112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Trebuchet MS"/>
              </a:rPr>
              <a:t>BUENAS PRÁCTICAS PARA LLEVAR A CABO 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68360" y="1773360"/>
            <a:ext cx="849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99"/>
                </a:solidFill>
                <a:uFillTx/>
                <a:latin typeface="Arial"/>
              </a:rPr>
              <a:t>PUNTOS FUERTES DEL PROYEC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ropuesta ligada a uno de los objetivos del programa.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Acercar la formación al mundo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Justificación del carácter transnacional de la propuesta.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Existencia de una norma europea que regula los requisitos y procedimientos para certificación de operadores de END. EN 473, ISO 97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alidad de la Asociación.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Todos los socios son los organismos responsables de la certificación de operadores de END en sus respectivos paí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apacidad de la Asociación para aplicar y difundir los resultados del proyecto.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Todos son miembros de organismos europeos de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0" y="0"/>
            <a:ext cx="9144000" cy="1028880"/>
            <a:chOff x="0" y="0"/>
            <a:chExt cx="9144000" cy="1028880"/>
          </a:xfrm>
        </p:grpSpPr>
        <p:pic>
          <p:nvPicPr>
            <p:cNvPr id="201" name="" descr=""/>
            <p:cNvPicPr/>
            <p:nvPr/>
          </p:nvPicPr>
          <p:blipFill>
            <a:blip r:embed="rId2"/>
            <a:stretch/>
          </p:blipFill>
          <p:spPr>
            <a:xfrm>
              <a:off x="3348000" y="11592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3"/>
            <a:stretch/>
          </p:blipFill>
          <p:spPr>
            <a:xfrm>
              <a:off x="0" y="115920"/>
              <a:ext cx="200988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4"/>
            <a:srcRect l="21423" t="-524" r="14288" b="18290"/>
            <a:stretch/>
          </p:blipFill>
          <p:spPr>
            <a:xfrm>
              <a:off x="8115480" y="0"/>
              <a:ext cx="1028520" cy="102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71280" y="6342120"/>
            <a:ext cx="971640" cy="442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5" name=""/>
          <p:cNvSpPr/>
          <p:nvPr/>
        </p:nvSpPr>
        <p:spPr>
          <a:xfrm>
            <a:off x="468360" y="8686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Trebuchet MS"/>
              </a:rPr>
              <a:t>BUENAS PRÁCTICAS PARA LLEVAR A CABO 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68360" y="2274480"/>
            <a:ext cx="828036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Posibilidad de conocer otras formas de trabajar y otras cultu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Enriquecimiento personal y profes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Contribución a la mejora de herramientas o métodos de la formación profes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Dar sentido al concepto de Europa y contribuir a que la idea de la libre circulación de trabajadores dentro de la UE sea una re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0" y="0"/>
            <a:ext cx="9144000" cy="1028880"/>
            <a:chOff x="0" y="0"/>
            <a:chExt cx="9144000" cy="1028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3348000" y="11592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2"/>
            <a:stretch/>
          </p:blipFill>
          <p:spPr>
            <a:xfrm>
              <a:off x="0" y="115920"/>
              <a:ext cx="200988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3"/>
            <a:srcRect l="21423" t="-524" r="14288" b="18290"/>
            <a:stretch/>
          </p:blipFill>
          <p:spPr>
            <a:xfrm>
              <a:off x="8115480" y="0"/>
              <a:ext cx="1028520" cy="102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"/>
          <p:cNvSpPr/>
          <p:nvPr/>
        </p:nvSpPr>
        <p:spPr>
          <a:xfrm>
            <a:off x="684360" y="112392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Trebuchet MS"/>
              </a:rPr>
              <a:t>BENEFICIOS DE PARTICIPAR EN INICIATIVAS Y PROYECTOS INTER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1440"/>
          <a:ext cx="876312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876312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3851280" y="2637000"/>
            <a:ext cx="496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99"/>
                </a:solidFill>
                <a:latin typeface="Trebuchet MS"/>
              </a:rPr>
              <a:t>CENTRO NACIONAL DE FORMACIÓN PROFESIONAL OCUPACIONAL DE CARTAGENA (MURCIA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84360" y="549360"/>
            <a:ext cx="3382920" cy="1452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156360" y="476280"/>
            <a:ext cx="1944720" cy="1433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rcRect l="23425" t="0" r="0" b="0"/>
          <a:stretch/>
        </p:blipFill>
        <p:spPr>
          <a:xfrm>
            <a:off x="324000" y="2349360"/>
            <a:ext cx="3528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95280" y="2278800"/>
            <a:ext cx="78487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8002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Tener paciencia.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Es difícil que una propuesta se apruebe a la primera, justamente porque no está bien definida y hay que madurar la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0" y="0"/>
            <a:ext cx="9144000" cy="1028880"/>
            <a:chOff x="0" y="0"/>
            <a:chExt cx="9144000" cy="102888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3348000" y="11592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"/>
            <a:stretch/>
          </p:blipFill>
          <p:spPr>
            <a:xfrm>
              <a:off x="0" y="115920"/>
              <a:ext cx="200988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3"/>
            <a:srcRect l="21423" t="-524" r="14288" b="18290"/>
            <a:stretch/>
          </p:blipFill>
          <p:spPr>
            <a:xfrm>
              <a:off x="8115480" y="0"/>
              <a:ext cx="1028520" cy="102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9144000" cy="5493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95280" y="1628640"/>
            <a:ext cx="85694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Centro Nacional de Formación Profesional Ocupacional de CARTAGENA (Murc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Familia Profesional de Quím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63640" y="3716280"/>
            <a:ext cx="60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Página Web Centro a través de: </a:t>
            </a: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sefcarm.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Página Web del proyecto: </a:t>
            </a: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proqualind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0" y="0"/>
            <a:ext cx="9144000" cy="1028880"/>
            <a:chOff x="0" y="0"/>
            <a:chExt cx="9144000" cy="1028880"/>
          </a:xfrm>
        </p:grpSpPr>
        <p:pic>
          <p:nvPicPr>
            <p:cNvPr id="223" name="" descr=""/>
            <p:cNvPicPr/>
            <p:nvPr/>
          </p:nvPicPr>
          <p:blipFill>
            <a:blip r:embed="rId4"/>
            <a:stretch/>
          </p:blipFill>
          <p:spPr>
            <a:xfrm>
              <a:off x="3348000" y="11592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5"/>
            <a:stretch/>
          </p:blipFill>
          <p:spPr>
            <a:xfrm>
              <a:off x="0" y="115920"/>
              <a:ext cx="200988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6"/>
            <a:srcRect l="21423" t="-524" r="14288" b="18290"/>
            <a:stretch/>
          </p:blipFill>
          <p:spPr>
            <a:xfrm>
              <a:off x="8115480" y="0"/>
              <a:ext cx="1028520" cy="102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71280" y="6342120"/>
            <a:ext cx="971640" cy="442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27" name=""/>
          <p:cNvSpPr/>
          <p:nvPr/>
        </p:nvSpPr>
        <p:spPr>
          <a:xfrm>
            <a:off x="684360" y="4941720"/>
            <a:ext cx="3168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Vicente Garberí Col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vicentej.garberi@carm.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03640" y="494172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33"/>
                </a:solidFill>
                <a:latin typeface="Arial"/>
              </a:rPr>
              <a:t>GRACIAS POR SU A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0"/>
          <a:ext cx="9036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36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156360" y="404640"/>
            <a:ext cx="1944720" cy="1435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55640" y="213372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3300"/>
                </a:solidFill>
                <a:latin typeface="Arial"/>
              </a:rPr>
              <a:t>SERVICIO REGIONAL DE EMPLEO Y 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2708280"/>
            <a:ext cx="712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Organismo Autónomo dependiente de la Consejería de Educación, Universidades y Empleo de la Comunidad Autónoma de la Región de Mur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3933720"/>
            <a:ext cx="684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SUS FUN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Órgano encargado en el ámbito de la Com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Autónoma de la Región de Murcia, del diseño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jecución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993300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Acciones de Fomento de Emp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993300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Formación para el Emp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993300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Orientación e Intermediación Lab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826920" y="476280"/>
            <a:ext cx="316728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144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50920" y="1843560"/>
            <a:ext cx="8675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99"/>
                </a:solidFill>
                <a:uFillTx/>
                <a:latin typeface="Arial"/>
              </a:rPr>
              <a:t>CENTROS NACIONALES DE FORMACION OCUP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26920" y="476280"/>
            <a:ext cx="2737080" cy="1174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156360" y="404640"/>
            <a:ext cx="1944720" cy="1435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263700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00"/>
                </a:solidFill>
                <a:latin typeface="Arial"/>
              </a:rPr>
              <a:t>LA RED DE CENTROS 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nfmapP" descr="pulse sobre el nombre de una Comunidad Autónoma"/>
          <p:cNvPicPr/>
          <p:nvPr/>
        </p:nvPicPr>
        <p:blipFill>
          <a:blip r:embed="rId5"/>
          <a:stretch/>
        </p:blipFill>
        <p:spPr>
          <a:xfrm>
            <a:off x="3995640" y="2924280"/>
            <a:ext cx="4861080" cy="3230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4000" y="3429000"/>
            <a:ext cx="441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31 CENTROS NACIONALES REPARTIDOS POR TODA LA GEOGRAFIA ESPAÑOLA, CADA UNO CON SU AREA FORMATIVA ASIGNADA, ENTRE ELLOS EL </a:t>
            </a:r>
            <a:r>
              <a:rPr b="1" i="1" lang="es-ES" sz="1800" spc="-1" strike="noStrike">
                <a:solidFill>
                  <a:srgbClr val="993300"/>
                </a:solidFill>
                <a:latin typeface="Arial"/>
              </a:rPr>
              <a:t>CENTRO NACIONAL DE CARTAG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-108000" y="144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8000" y="144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11280" y="189000"/>
            <a:ext cx="2016000" cy="865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732720" y="189000"/>
            <a:ext cx="1079280" cy="796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9280" y="1124640"/>
            <a:ext cx="8642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99"/>
                </a:solidFill>
                <a:uFillTx/>
                <a:latin typeface="Arial"/>
              </a:rPr>
              <a:t>CENTRO NACIONAL DE F.P.O. DE CARTAG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87280" y="1557360"/>
            <a:ext cx="41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993300"/>
                </a:solidFill>
                <a:uFillTx/>
                <a:latin typeface="Arial"/>
              </a:rPr>
              <a:t>Familia Profesional:</a:t>
            </a:r>
            <a:r>
              <a:rPr b="1" lang="es-ES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993300"/>
                </a:solidFill>
                <a:uFillTx/>
                <a:latin typeface="Arial"/>
              </a:rPr>
              <a:t>QUI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1989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993300"/>
                </a:solidFill>
                <a:uFillTx/>
                <a:latin typeface="Arial"/>
              </a:rPr>
              <a:t>Área Form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00360" y="4589640"/>
            <a:ext cx="6264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Análisis Quí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nsayos Microbiológicos y Biotecn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Organización y Control de Ensayos No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estructivos: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Superfi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Ultrason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adiograf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2560" y="2492280"/>
            <a:ext cx="231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Proceso Quí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869000"/>
            <a:ext cx="23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Análisis y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00360" y="239076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Gestión y Control en Planta Quí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Operaciones Básicas en Planta Quí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Operaciones en Instalaciones de Energía y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de Servicios Auxili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59280" y="25401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0200" y="4708440"/>
            <a:ext cx="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3490920"/>
            <a:ext cx="2204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Transform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de Polím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376380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Operaciones de transformación de    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polímeros termoplásti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25800" y="38448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196380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993300"/>
                </a:solidFill>
                <a:uFillTx/>
                <a:latin typeface="Arial"/>
              </a:rPr>
              <a:t>Certificados de Profes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838080" y="255276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26920" y="1197000"/>
            <a:ext cx="763272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PROGRAMA EUROP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DE FORMACIÓN PROFE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3300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993300"/>
                </a:solidFill>
                <a:latin typeface="Arial"/>
              </a:rPr>
              <a:t>LEONARDO DA VINC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3300"/>
                </a:solidFill>
                <a:latin typeface="Arial"/>
              </a:rPr>
              <a:t>Proyecto de Transferencia de Innovación nº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2011-1-LEO05-357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Nuevo ERASMUS +    </a:t>
            </a:r>
            <a:r>
              <a:rPr b="0" i="1" lang="es-E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    KA2 Asociaciones Estraté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Verdana"/>
              </a:rPr>
              <a:t>“</a:t>
            </a:r>
            <a:r>
              <a:rPr b="1" lang="es-ES" sz="1800" spc="-1" strike="noStrike">
                <a:solidFill>
                  <a:srgbClr val="993300"/>
                </a:solidFill>
                <a:latin typeface="Verdana"/>
              </a:rPr>
              <a:t>TRANSFERRING EUROPEAN TRAINING PROGRAMME FOR THE QUALIFICATION OF NON-DESTRUCTIVE TESTING PERSONNEL”</a:t>
            </a:r>
            <a:r>
              <a:rPr b="0" lang="es-ES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0"/>
            <a:ext cx="9144000" cy="1028880"/>
            <a:chOff x="0" y="0"/>
            <a:chExt cx="9144000" cy="1028880"/>
          </a:xfrm>
        </p:grpSpPr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3348000" y="11592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0" y="115920"/>
              <a:ext cx="200988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4"/>
            <a:srcRect l="21423" t="-524" r="14288" b="18290"/>
            <a:stretch/>
          </p:blipFill>
          <p:spPr>
            <a:xfrm>
              <a:off x="8115480" y="0"/>
              <a:ext cx="1028520" cy="102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71280" y="6342120"/>
            <a:ext cx="971640" cy="442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11280" y="1700280"/>
            <a:ext cx="807696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333399"/>
                </a:solidFill>
                <a:uFillTx/>
                <a:latin typeface="Times New Roman"/>
              </a:rPr>
              <a:t>OBJETIVOS</a:t>
            </a:r>
            <a:r>
              <a:rPr b="0" lang="es-ES" sz="2400" spc="-1" strike="noStrike" u="sng">
                <a:solidFill>
                  <a:srgbClr val="333399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Actualización y transferencia de una herramienta común a todos los participantes para la formación y certificación, conforme a la norma UNE-EN-ISO</a:t>
            </a:r>
            <a:r>
              <a:rPr b="0" i="1" lang="es-ES" sz="20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9712,</a:t>
            </a:r>
            <a:r>
              <a:rPr b="0" i="1" lang="es-ES" sz="18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en sus tres niveles de cualificación existentes,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Berlin Sans FB"/>
                <a:ea typeface="Times New Roman"/>
              </a:rPr>
              <a:t>en los métodos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33"/>
                </a:solidFill>
                <a:latin typeface="Berlin Sans FB"/>
                <a:ea typeface="Arial Unicode MS"/>
              </a:rPr>
              <a:t>⇒</a:t>
            </a:r>
            <a:r>
              <a:rPr b="0" lang="es-ES" sz="20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990033"/>
                </a:solidFill>
                <a:latin typeface="Berlin Sans FB"/>
                <a:ea typeface="Arial Unicode MS"/>
              </a:rPr>
              <a:t>Radiografía Indust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33"/>
                </a:solidFill>
                <a:latin typeface="Berlin Sans FB"/>
                <a:ea typeface="Arial Unicode MS"/>
              </a:rPr>
              <a:t>⇒  </a:t>
            </a:r>
            <a:r>
              <a:rPr b="0" lang="es-ES" sz="2000" spc="-1" strike="noStrike">
                <a:solidFill>
                  <a:srgbClr val="990033"/>
                </a:solidFill>
                <a:latin typeface="Berlin Sans FB"/>
                <a:ea typeface="Arial Unicode MS"/>
              </a:rPr>
              <a:t>Corrientes Induc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33"/>
                </a:solidFill>
                <a:latin typeface="Berlin Sans FB"/>
                <a:ea typeface="Arial Unicode MS"/>
              </a:rPr>
              <a:t>⇒  </a:t>
            </a:r>
            <a:r>
              <a:rPr b="0" lang="es-ES" sz="2000" spc="-1" strike="noStrike">
                <a:solidFill>
                  <a:srgbClr val="990033"/>
                </a:solidFill>
                <a:latin typeface="Berlin Sans FB"/>
                <a:ea typeface="Arial Unicode MS"/>
              </a:rPr>
              <a:t>Ultrason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33"/>
                </a:solidFill>
                <a:latin typeface="Berlin Sans FB"/>
                <a:ea typeface="Arial Unicode MS"/>
              </a:rPr>
              <a:t>⇒  </a:t>
            </a:r>
            <a:r>
              <a:rPr b="0" lang="es-ES" sz="2000" spc="-1" strike="noStrike">
                <a:solidFill>
                  <a:srgbClr val="990033"/>
                </a:solidFill>
                <a:latin typeface="Berlin Sans FB"/>
                <a:ea typeface="Arial Unicode MS"/>
              </a:rPr>
              <a:t>Partículas Magné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33"/>
                </a:solidFill>
                <a:latin typeface="Berlin Sans FB"/>
                <a:ea typeface="Arial Unicode MS"/>
              </a:rPr>
              <a:t>⇒  </a:t>
            </a:r>
            <a:r>
              <a:rPr b="0" lang="es-ES" sz="2000" spc="-1" strike="noStrike">
                <a:solidFill>
                  <a:srgbClr val="990033"/>
                </a:solidFill>
                <a:latin typeface="Berlin Sans FB"/>
                <a:ea typeface="Arial Unicode MS"/>
              </a:rPr>
              <a:t>Líquidos Penetr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Actualización y elaboración de materiales didácticos para alumnos y profesores, únicos para todos los países socios, editados en cada uno de sus idio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981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990033"/>
                </a:solidFill>
                <a:uFillTx/>
                <a:latin typeface="Times New Roman"/>
              </a:rPr>
              <a:t>TRANSFERRING EUROPEAN TRAINING PROGRAMME FOR THE QUALIFICATION OF NON-DESTRUCTIVE TESTING PERS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0"/>
            <a:ext cx="9144000" cy="1028880"/>
            <a:chOff x="0" y="0"/>
            <a:chExt cx="9144000" cy="1028880"/>
          </a:xfrm>
        </p:grpSpPr>
        <p:pic>
          <p:nvPicPr>
            <p:cNvPr id="100" name="" descr=""/>
            <p:cNvPicPr/>
            <p:nvPr/>
          </p:nvPicPr>
          <p:blipFill>
            <a:blip r:embed="rId5"/>
            <a:stretch/>
          </p:blipFill>
          <p:spPr>
            <a:xfrm>
              <a:off x="3348000" y="11592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6"/>
            <a:stretch/>
          </p:blipFill>
          <p:spPr>
            <a:xfrm>
              <a:off x="0" y="115920"/>
              <a:ext cx="200988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7"/>
            <a:srcRect l="21423" t="-524" r="14288" b="18290"/>
            <a:stretch/>
          </p:blipFill>
          <p:spPr>
            <a:xfrm>
              <a:off x="8115480" y="0"/>
              <a:ext cx="1028520" cy="102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71280" y="6342120"/>
            <a:ext cx="971640" cy="442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8360" y="1773360"/>
            <a:ext cx="849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333399"/>
                </a:solidFill>
                <a:uFillTx/>
                <a:latin typeface="Times New Roman"/>
              </a:rPr>
              <a:t>PRODUCTOS</a:t>
            </a:r>
            <a:r>
              <a:rPr b="1" lang="es-ES" sz="2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es-ES" sz="1600" spc="-1" strike="noStrike" u="sng">
                <a:solidFill>
                  <a:srgbClr val="333399"/>
                </a:solidFill>
                <a:uFillTx/>
                <a:latin typeface="Times New Roman"/>
              </a:rPr>
              <a:t>RESULTANTES</a:t>
            </a:r>
            <a:r>
              <a:rPr b="1" lang="es-ES" sz="2400" spc="-1" strike="noStrike" u="sng">
                <a:solidFill>
                  <a:srgbClr val="333399"/>
                </a:solidFill>
                <a:uFillTx/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990033"/>
                </a:solidFill>
                <a:latin typeface="Arial"/>
                <a:ea typeface="Times New Roman"/>
              </a:rPr>
              <a:t> </a:t>
            </a:r>
            <a:r>
              <a:rPr b="1" i="1" lang="es-ES" sz="2000" spc="-1" strike="noStrike">
                <a:solidFill>
                  <a:srgbClr val="990033"/>
                </a:solidFill>
                <a:latin typeface="Arial"/>
                <a:ea typeface="Times New Roman"/>
              </a:rPr>
              <a:t>5 Guías Didáctica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enen los objetivos, requisitos del alumno e instalaciones, así como la enumeración de los contenidos teórico prácticos, desarrollados en los manuales de estu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990033"/>
                </a:solidFill>
                <a:latin typeface="Arial"/>
                <a:ea typeface="Times New Roman"/>
              </a:rPr>
              <a:t> </a:t>
            </a:r>
            <a:r>
              <a:rPr b="1" i="1" lang="es-ES" sz="2000" spc="-1" strike="noStrike">
                <a:solidFill>
                  <a:srgbClr val="990033"/>
                </a:solidFill>
                <a:latin typeface="Arial"/>
                <a:ea typeface="Times New Roman"/>
              </a:rPr>
              <a:t>7 Manuales de Estudi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contienen el desarrollo de los conocimientos teórico-prácticos necesarios para su estudio por el alum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990033"/>
                </a:solidFill>
                <a:latin typeface="Arial"/>
                <a:ea typeface="Times New Roman"/>
              </a:rPr>
              <a:t> </a:t>
            </a:r>
            <a:r>
              <a:rPr b="1" i="1" lang="es-ES" sz="2000" spc="-1" strike="noStrike">
                <a:solidFill>
                  <a:srgbClr val="990033"/>
                </a:solidFill>
                <a:latin typeface="Arial"/>
                <a:ea typeface="Times New Roman"/>
              </a:rPr>
              <a:t>1 Guía del profesor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contiene las orientaciones pedagógicas a seguir por parte del forma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do el material elaborado disponible en:  Español, Checo, Croata, Húngaro, Portugués e Inglés, con los tres niveles de especia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981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990033"/>
                </a:solidFill>
                <a:uFillTx/>
                <a:latin typeface="Times New Roman"/>
              </a:rPr>
              <a:t>TRANSFERRING EUROPEAN TRAINING PROGRAMME FOR THE QUALIFICATION OF NON-DESTRUCTIVE TESTING PERS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1028880"/>
            <a:chOff x="0" y="0"/>
            <a:chExt cx="9144000" cy="102888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3348000" y="11592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0" y="115920"/>
              <a:ext cx="200988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4"/>
            <a:srcRect l="21423" t="-524" r="14288" b="18290"/>
            <a:stretch/>
          </p:blipFill>
          <p:spPr>
            <a:xfrm>
              <a:off x="8115480" y="0"/>
              <a:ext cx="1028520" cy="102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71280" y="6342120"/>
            <a:ext cx="971640" cy="442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360" y="112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Trebuchet MS"/>
              </a:rPr>
              <a:t>BUENAS PRÁCTICAS PARA LLEVAR A CABO UN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705320"/>
            <a:ext cx="8713800" cy="41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La propuest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Es el punto más difícil. Entre otras, la selección depende de que la propuesta sea relevante y esté bien diseña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333399"/>
              </a:buClr>
              <a:buFont typeface="Arial"/>
              <a:buAutoNum type="alphaL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Detectar una necesidad (¿Porqué es necesario el proyecto?).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Ausencia de una herramienta común para el estudio encaminado a la cert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333399"/>
              </a:buClr>
              <a:buFont typeface="Arial"/>
              <a:buAutoNum type="alphaL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Que esa necesidad responda  a uno de los objetivos del programa.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Acercar la formación al mundo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333399"/>
              </a:buClr>
              <a:buFont typeface="Arial"/>
              <a:buAutoNum type="alphaL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Que se justifique la necesidad de su dimensión europea.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Existencia de una norma europea que regula los requisitos y procedimientos para certificación de operadores de END. EN 473, ISO 97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0" y="0"/>
            <a:ext cx="9144000" cy="1028880"/>
            <a:chOff x="0" y="0"/>
            <a:chExt cx="9144000" cy="102888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3348000" y="115920"/>
              <a:ext cx="181764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0" y="115920"/>
              <a:ext cx="200988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rcRect l="21423" t="-524" r="14288" b="18290"/>
            <a:stretch/>
          </p:blipFill>
          <p:spPr>
            <a:xfrm>
              <a:off x="8115480" y="0"/>
              <a:ext cx="1028520" cy="102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8T12:10:13Z</dcterms:created>
  <dc:creator>WinuE</dc:creator>
  <dc:description/>
  <dc:language>en-US</dc:language>
  <cp:lastModifiedBy>.</cp:lastModifiedBy>
  <dcterms:modified xsi:type="dcterms:W3CDTF">2014-02-18T09:51:03Z</dcterms:modified>
  <cp:revision>35</cp:revision>
  <dc:subject/>
  <dc:title>Diapositiva 1</dc:title>
</cp:coreProperties>
</file>